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8E29-4256-4910-BBDD-66A09CA63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F1B3-5E1B-43C0-A284-036D76BFE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0035-C40D-4249-89CA-7860854A0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3436-3879-4300-A054-10F8594D2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1DD-5849-4CED-84EB-BF381C94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3C0-4596-4926-AAFB-9EA920E1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6E0-7146-4F2B-B1DC-0F1595C2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E0A-0C04-48D7-A816-AEA24117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F8F-2D28-456A-833B-D5372ED4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703-6089-43B0-9F56-B0E35BA8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EBD-A45D-47DF-9790-A9758770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1ED-4A61-425A-B93D-59E04851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AB8-3BDE-4644-8458-DF69D4B4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076-9D42-4182-A1B7-FE5DDEC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AFF-6B4F-4DFC-BC6E-9505D2C0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529-055D-4CF0-9FE2-73802013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3E34-5693-4ECE-8307-C0E227839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ccook125@aol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TI Rub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hn E McCook, Ed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mccook125@ao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65-693-588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sion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at or below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gin the appropriate forms to take student to the S-Team to vet movement to Tier 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ok at 2 additional data points such as state testing, work product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above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e working with student in the class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to the S-Team for input and further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sion Point for Tie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Student is at or below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on universal screening at grad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) Growth rate is less than average(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as a beginning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ed to Tier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Student achieves 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at grade level or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it Tier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) Some progress but above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e Tier 2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sion Point for Ti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is at or below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on universal screening at grad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) Growth rate is less than average(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as a beginning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ed to Special Ed. Consi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making progress but below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at grad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e Tier 3 or Return to Tier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achieves 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at grad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it T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1:23:23Z</dcterms:created>
  <dc:creator>John</dc:creator>
  <dc:description/>
  <dc:language>en-US</dc:language>
  <cp:lastModifiedBy>John</cp:lastModifiedBy>
  <dcterms:modified xsi:type="dcterms:W3CDTF">2010-05-26T13:48:00Z</dcterms:modified>
  <cp:revision>2</cp:revision>
  <dc:subject/>
  <dc:title>RTI Rubrics</dc:title>
</cp:coreProperties>
</file>